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9.jpeg" ContentType="image/jpeg"/>
  <Override PartName="/ppt/media/image7.gif" ContentType="image/gif"/>
  <Override PartName="/ppt/media/image37.gif" ContentType="image/gif"/>
  <Override PartName="/ppt/media/image27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8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10.gif" ContentType="image/gif"/>
  <Override PartName="/ppt/media/image13.png" ContentType="image/png"/>
  <Override PartName="/ppt/media/image33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8.gif" ContentType="image/gif"/>
  <Override PartName="/ppt/media/image18.jpeg" ContentType="image/jpeg"/>
  <Override PartName="/ppt/media/image34.jpeg" ContentType="image/jpeg"/>
  <Override PartName="/ppt/media/image20.png" ContentType="image/png"/>
  <Override PartName="/ppt/media/image11.gif" ContentType="image/gif"/>
  <Override PartName="/ppt/media/image4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.wmf" ContentType="image/x-wmf"/>
  <Override PartName="/ppt/media/image15.jpeg" ContentType="image/jpeg"/>
  <Override PartName="/ppt/media/image35.wmf" ContentType="image/x-wmf"/>
  <Override PartName="/ppt/media/image9.gif" ContentType="image/gif"/>
  <Override PartName="/ppt/media/image16.jpeg" ContentType="image/jpeg"/>
  <Override PartName="/ppt/media/image17.wmf" ContentType="image/x-wm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0D3-93B2-4E14-A46A-C4087991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691-9BC8-4E75-B92C-8FB4C85A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FCD-1BF4-4769-9A19-F78B34E4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E21-A0D3-4724-B277-91A7FA38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E4E3-5C11-4A7B-9326-182B9D6D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CE22-A0A9-4065-8969-15C8B54C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89DF-099C-4347-834E-A9F0A78D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BD62-8F63-410B-B53A-BC24F997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6FF3-5846-4B1C-836F-58A2A4AC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AF95-59D2-4606-9272-87795996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932A-8CC5-4E56-8E3A-C54F81F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1E6-E5E5-4D1A-A438-707622D4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2273-A6DA-4675-8B6A-E4A65C72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2ED7-E265-4D13-A54E-AD1B5A5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D8EE-C12A-43CC-BC8E-D2B5EFDD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92CB-3C5A-4C92-A8FD-94FA123B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87D2-EAA9-43C2-86AB-FE272D84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A81-1537-4014-9BA6-42BDF02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92E-FA33-4269-B2FB-DA041D6F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AC2-8B44-4B86-B913-3296ACF5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3BE-65E0-475E-8722-D5AC9D03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647-5E2E-49D5-BC9C-ADC07BF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CDB-D615-4E14-ADD8-EC2733D9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09C-79F0-450C-8686-0251653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CEAF-4D6B-49F4-B5C2-62014F00476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A11D-2BEE-49A2-A2FB-58F816B7227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2" marL="914400" algn="ctr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3" marL="1371600" algn="ctr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4" marL="1828800" algn="ctr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hiller"/>
              </a:rPr>
              <a:t>Halloween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Origenes y tradiciones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324480" y="3733920"/>
          <a:ext cx="221004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733920"/>
                    <a:ext cx="22100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180972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iller"/>
              </a:rPr>
              <a:t>Trick-or-treating began with the poor in the 15</a:t>
            </a:r>
            <a:r>
              <a:rPr b="0" lang="en-US" sz="4400" spc="-1" strike="noStrike" baseline="30000">
                <a:solidFill>
                  <a:srgbClr val="ff9900"/>
                </a:solidFill>
                <a:latin typeface="Chiller"/>
              </a:rPr>
              <a:t>th</a:t>
            </a:r>
            <a:r>
              <a:rPr b="0" lang="en-US" sz="4400" spc="-1" strike="noStrike">
                <a:solidFill>
                  <a:srgbClr val="ff9900"/>
                </a:solidFill>
                <a:latin typeface="Chiller"/>
              </a:rPr>
              <a:t> centur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During the </a:t>
            </a:r>
            <a:r>
              <a:rPr b="0" i="1" lang="en-US" sz="2400" spc="-1" strike="noStrike">
                <a:solidFill>
                  <a:srgbClr val="000000"/>
                </a:solidFill>
                <a:latin typeface="Jokerman"/>
              </a:rPr>
              <a:t>All Souls Day</a:t>
            </a: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 festival in England, poor people would beg for “soul cakes,” made out of square pieces of bread with currants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Families would give soul cakes in return for a promise to pray for the family’s relatives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10080" y="4495680"/>
          <a:ext cx="33530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495680"/>
                    <a:ext cx="33530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358128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hiller"/>
              </a:rPr>
              <a:t>then children…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 practice, which was referred to as "going a-souling" was eventually taken up by children who would visit the houses in their neighborhood and be given ale, food, and money. 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12444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5638680" y="2057400"/>
          <a:ext cx="3124440" cy="17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057400"/>
                    <a:ext cx="31244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hiller"/>
              </a:rPr>
              <a:t>Today: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Children still go from house-to-house, but instead of ale, food, and money, they get candy.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62320" y="3587760"/>
            <a:ext cx="5715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With Irish Immigration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In 1848, millions of Irish emigrants poured into America as a result of the potato famine. They brought with them their traditions of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Halloween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73152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Halloween came to Americ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ey called Halloween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Oidche Shamhna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(`Night of Samhain'), as their ancestors had, and kept the traditional observances.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4419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Chiller"/>
              </a:rPr>
              <a:t>The Jack-O-Lanter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e Irish used to carry turnips with candles in them to light their way at night and to scare away ghosts..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4057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hiller"/>
              </a:rPr>
              <a:t>When they arrived in America they found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Chiller"/>
              </a:rPr>
              <a:t>that pumpkins were both plentiful and easier to carve than turnips.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8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4496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hiller"/>
              </a:rPr>
              <a:t>Now, Jack-O-Lanterns are used for decorating people’s home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581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hiller"/>
              </a:rPr>
              <a:t>People have recently started carving less traditional Jack-O-Lanter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95880" y="22096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hiller"/>
              </a:rPr>
              <a:t>Today people go to parties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28800" y="1620720"/>
            <a:ext cx="579132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Origin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lloween began two thousand years ago in Ireland, England, and Northern France with the ancient religion of the Celts (Paganism)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453420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hiller"/>
              </a:rPr>
              <a:t>Take their kids trick-or-treating.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343400" cy="404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4572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And eat lots of cand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Chiller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2117880" y="247968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wilstar.com/holidays/hallow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10400" y="320040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historychannel.com/hallo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7840" y="449568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fni.com/heritage/oct97/history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7520" y="380988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en.wikipedia.org/wiki/All_Souls_Day#Pagan_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hiller"/>
              </a:rPr>
              <a:t>The End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0" y="419112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9112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838080" y="38088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Happy Hallowe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914400" y="457200"/>
            <a:ext cx="5410080" cy="73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4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Chiller"/>
              </a:rPr>
              <a:t>They celebrated their New</a:t>
            </a: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 </a:t>
            </a:r>
            <a:r>
              <a:rPr b="1" lang="en-US" sz="4800" spc="-1" strike="noStrike">
                <a:solidFill>
                  <a:srgbClr val="ff9900"/>
                </a:solidFill>
                <a:latin typeface="Chiller"/>
              </a:rPr>
              <a:t>Year on November 1</a:t>
            </a:r>
            <a:r>
              <a:rPr b="1" lang="en-US" sz="4800" spc="-1" strike="noStrike" baseline="30000">
                <a:solidFill>
                  <a:srgbClr val="ff9900"/>
                </a:solidFill>
                <a:latin typeface="Chiller"/>
              </a:rPr>
              <a:t>st</a:t>
            </a:r>
            <a:r>
              <a:rPr b="1" lang="en-US" sz="4800" spc="-1" strike="noStrike">
                <a:solidFill>
                  <a:srgbClr val="ff9900"/>
                </a:solidFill>
                <a:latin typeface="Chiller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s day marked the beginning of the dark, cold winter, a time of year that was often associated with human death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5715000" cy="2990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2438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Samhain (</a:t>
            </a:r>
            <a:r>
              <a:rPr b="1" i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sow-in)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On the night of October 31, they celebrated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Samhain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, when it was believed that the ghosts of the dead returned to earth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14600" y="49528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86200" y="45720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943600" y="4648320"/>
            <a:ext cx="533520" cy="761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724280" y="50292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971800" y="39625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486400" y="4191120"/>
            <a:ext cx="380880" cy="53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Costum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People thought that they would encounter ghosts if they left their homes…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3048120" cy="312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17k"/>
          <p:cNvPicPr/>
          <p:nvPr/>
        </p:nvPicPr>
        <p:blipFill>
          <a:blip r:embed="rId2"/>
          <a:stretch/>
        </p:blipFill>
        <p:spPr>
          <a:xfrm>
            <a:off x="6553080" y="48769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16k"/>
          <p:cNvPicPr/>
          <p:nvPr/>
        </p:nvPicPr>
        <p:blipFill>
          <a:blip r:embed="rId3"/>
          <a:stretch/>
        </p:blipFill>
        <p:spPr>
          <a:xfrm>
            <a:off x="7391520" y="335268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27k"/>
          <p:cNvPicPr/>
          <p:nvPr/>
        </p:nvPicPr>
        <p:blipFill>
          <a:blip r:embed="rId4"/>
          <a:stretch/>
        </p:blipFill>
        <p:spPr>
          <a:xfrm>
            <a:off x="0" y="3657600"/>
            <a:ext cx="195264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25k"/>
          <p:cNvPicPr/>
          <p:nvPr/>
        </p:nvPicPr>
        <p:blipFill>
          <a:blip r:embed="rId5"/>
          <a:stretch/>
        </p:blipFill>
        <p:spPr>
          <a:xfrm>
            <a:off x="1828800" y="4800600"/>
            <a:ext cx="1609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hiller"/>
              </a:rPr>
              <a:t>So they wore costumes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s way, the ghosts couldn’t recognize them!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38102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Chiller"/>
              </a:rPr>
              <a:t>The Christian Influ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As the influence of Christianity spread into Celtic lands, i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century, Pope Boniface IV introduced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All Saints' Day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, a time to honor saints and martyrs, to replace the Pagan festival of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Samhain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. It was observed on May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086600" y="4476600"/>
            <a:ext cx="1628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A change of d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In 834, Pope Gregory III moved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All Saint's Day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from May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 to Nov.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. Oct. 3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thus became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All Hallows' Eve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('hallow' means 'saint').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2209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All Souls 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Novembe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, called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All Souls Day, is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the day set apart in the Roman Catholic Church for the commemoration of the dead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262908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14:15:04Z</dcterms:created>
  <dc:creator>Virginia Wesleyan College</dc:creator>
  <dc:description/>
  <dc:language>en-US</dc:language>
  <cp:lastModifiedBy>Helen Zumaeta</cp:lastModifiedBy>
  <dcterms:modified xsi:type="dcterms:W3CDTF">2011-11-02T13:23:37Z</dcterms:modified>
  <cp:revision>57</cp:revision>
  <dc:subject/>
  <dc:title>Halloween origins and traditions</dc:title>
</cp:coreProperties>
</file>